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3B2-D6A3-4F55-8517-2717F2E7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289-0F4E-445C-8C25-8E7EDC20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3C4-6EB3-478B-B86E-E7D7554F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1D5-6F57-4EFB-921E-3000A17C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834-98C2-4E17-89C5-B8A7F888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ED2-2AC1-477D-A80F-BCA16B6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270-67DE-4D8D-B892-4C86845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739-1232-4ACA-A575-02B986A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27A-ADC5-4D93-8FDD-26CAA9A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DF7-53DD-485F-88B5-A1032833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C0D-6354-4793-A815-EC86833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BB0-6189-412D-9230-1907EDB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AFA-4865-42F5-B795-6C799284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24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k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685800"/>
          <a:ext cx="6858000" cy="9336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09480" y="0"/>
            <a:ext cx="0" cy="13106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066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5720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76960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757080"/>
            <a:ext cx="6095880" cy="88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B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Büff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E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Kä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Lö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Mö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Mü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Papa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Te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Ham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Jag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858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6858000" cy="78026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örterbuch Lektion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gation of woh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n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en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en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6858000" cy="74818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4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k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685800"/>
          <a:ext cx="6858000" cy="9336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09480" y="0"/>
            <a:ext cx="0" cy="13106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066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5720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76960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757080"/>
            <a:ext cx="6095880" cy="59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Schne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Pf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Dr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Spe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Qu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ro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Strau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Vo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07960"/>
            <a:ext cx="6858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k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n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n 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n A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üß d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üe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40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52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640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750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5879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99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010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823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4316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04920"/>
            <a:ext cx="68580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k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 N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 Wieders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chü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c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 bin 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 bist 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heisst 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b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heis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 bi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62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673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0958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8072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0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229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51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844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3367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208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14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862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e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ut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wim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e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ö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 K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s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-50796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V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chwe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ru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och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Gross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rossv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nk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us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Cou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nk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Mädc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Ju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ch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Kön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öni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ch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H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at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u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chw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e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4:07:53Z</dcterms:created>
  <dc:creator>udsd</dc:creator>
  <dc:description/>
  <dc:language>en-US</dc:language>
  <cp:lastModifiedBy>udsd</cp:lastModifiedBy>
  <dcterms:modified xsi:type="dcterms:W3CDTF">2011-05-31T18:14:00Z</dcterms:modified>
  <cp:revision>2</cp:revision>
  <dc:subject/>
  <dc:title>Slide 1</dc:title>
</cp:coreProperties>
</file>